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2822-7690-4886-9D8B-9972362E495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celta imprenditoriale può avere conseguenze molto pesanti sulla propria vita personale. Il tempo libero verrà drasticamente ridotto e occorrerà abituarsi a non avere orari. I ritmi di lavoro cambiano, così come cambia la responsabilità e l’assiduità dell’impegno.Occorre inoltre avere le necessarie competenze tecnich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non si hanno le esperien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ttuare stage presso azi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are corsi di formazion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rsi con persone esperte del ra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o strumento ti permetterà non solo di quantificare le tue probabilità di successo, ma anche di cominciare a riflettere su quali e quante siano le decisioni da prendere per avviare la tua impresa: dove localizzarla, con quanto personale, con quali prodo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 elementi raccolti ti saranno utili per predisporre la redazione del piano d'impres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indispensabi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arsi al mercato. Comprendere cioè  le esigenze del consumatore e fare il possibile per soddisfar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re il tipo di clientela a cui ci vogliamo rivolgere, perché in ragione di ciò può cambiare il nostro modo di presentarci e il tipo di servizio che deve essere reso,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izzare il mercato potenziale: è sufficientemente grande? È in espansione? Ci sono molti concorren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88F33-13D3-488F-8C44-0C3453A98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492FE-5009-4149-AE18-4D1EF9AE3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80BBE-6E88-47E1-B8D0-C9E8B871F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23A85-2FE2-4F56-BFDB-13EE9CBBA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A15B3-52F0-492D-B8B6-1B772BD2D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E9C9-FA57-47F3-86C0-7B082CFF3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6ED5B-733E-4AA2-962F-AFB7D66C3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F2F20-6C48-484C-B14F-1C2F87EA0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DD3E4-AC8C-4528-897D-327876847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CD4B-4100-4DD4-9BF8-7F1F38B2B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35EBE-DD20-411A-9564-FAE8F63CE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02771-A250-4C38-8161-43FB3F5F2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159D-3527-4128-8B6E-8FA40CD83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enesi.camcom.it/" TargetMode="External"/><Relationship Id="rId2" Type="http://schemas.openxmlformats.org/officeDocument/2006/relationships/hyperlink" Target="http://www.genesi.camcom.it/" TargetMode="External"/><Relationship Id="rId3" Type="http://schemas.openxmlformats.org/officeDocument/2006/relationships/hyperlink" Target="http://www.genesi.camcom.it/" TargetMode="External"/><Relationship Id="rId4" Type="http://schemas.openxmlformats.org/officeDocument/2006/relationships/hyperlink" Target="http://www.genesi.camcom.it/"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rer.camcom.it/guidafin" TargetMode="External"/><Relationship Id="rId2" Type="http://schemas.openxmlformats.org/officeDocument/2006/relationships/hyperlink" Target="http://www.rer.camcom.it/guidafin" TargetMode="External"/><Relationship Id="rId3" Type="http://schemas.openxmlformats.org/officeDocument/2006/relationships/hyperlink" Target="http://www.rer.camcom.it/guidafin" TargetMode="External"/><Relationship Id="rId4" Type="http://schemas.openxmlformats.org/officeDocument/2006/relationships/hyperlink" Target="http://www.rer.camcom.it/guidafin" TargetMode="External"/><Relationship Id="rId5" Type="http://schemas.openxmlformats.org/officeDocument/2006/relationships/hyperlink" Target="http://www.rer.camcom.it/guidafin" TargetMode="External"/><Relationship Id="rId6" Type="http://schemas.openxmlformats.org/officeDocument/2006/relationships/hyperlink" Target="http://www.rer.camcom.it/guidafin" TargetMode="External"/><Relationship Id="rId7" Type="http://schemas.openxmlformats.org/officeDocument/2006/relationships/hyperlink" Target="http://www.rer.camcom.it/guidafin" TargetMode="External"/><Relationship Id="rId8" Type="http://schemas.openxmlformats.org/officeDocument/2006/relationships/hyperlink" Target="http://www.rer.camcom.it/guidafin" TargetMode="External"/><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Fare impresa: una scelta possibl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ra d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GENESI</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2554200" y="2000160"/>
            <a:ext cx="3867120" cy="1671840"/>
          </a:xfrm>
          <a:prstGeom prst="rect">
            <a:avLst/>
          </a:prstGeom>
          <a:ln w="0">
            <a:noFill/>
          </a:ln>
        </p:spPr>
      </p:pic>
      <p:sp>
        <p:nvSpPr>
          <p:cNvPr id="72" name=""/>
          <p:cNvSpPr/>
          <p:nvPr/>
        </p:nvSpPr>
        <p:spPr>
          <a:xfrm>
            <a:off x="1166760" y="3664080"/>
            <a:ext cx="76899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te degli Sportelli che le Camere di Commercio dell’Emilia Romagna hanno creato per dare un primo supporto a coloro che intendono avviare un attività autonoma (www.genesi.camcom.it)</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IL PERCORSO A TAPPE PER LA CREAZIONE D’IMPRES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creare un’impresa occorr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analis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proporre soluzion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sere creativi</a:t>
            </a:r>
            <a:endParaRPr b="0" lang="en-US" sz="2400" spc="-1" strike="noStrike">
              <a:solidFill>
                <a:srgbClr val="000000"/>
              </a:solidFill>
              <a:latin typeface="Times New Roman"/>
            </a:endParaRPr>
          </a:p>
          <a:p>
            <a:pPr marL="33264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tanta pazienza…</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ercorso è lungo e irto di ostacoli!!</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ndiamo a vedere.. (</a:t>
            </a:r>
            <a:r>
              <a:rPr b="0" lang="it-IT" sz="2400" spc="-1" strike="noStrike" u="sng">
                <a:solidFill>
                  <a:srgbClr val="ccccff"/>
                </a:solidFill>
                <a:uFillTx/>
                <a:latin typeface="Comic Sans MS"/>
                <a:hlinkClick r:id="rId1"/>
              </a:rPr>
              <a:t>www.genesi.</a:t>
            </a:r>
            <a:r>
              <a:rPr b="0" lang="it-IT" sz="2400" spc="-1" strike="noStrike" u="sng">
                <a:solidFill>
                  <a:srgbClr val="ccccff"/>
                </a:solidFill>
                <a:uFillTx/>
                <a:latin typeface="Comic Sans MS"/>
                <a:hlinkClick r:id="rId2"/>
              </a:rPr>
              <a:t>camcom</a:t>
            </a:r>
            <a:r>
              <a:rPr b="0" lang="it-IT" sz="2400" spc="-1" strike="noStrike" u="sng">
                <a:solidFill>
                  <a:srgbClr val="ccccff"/>
                </a:solidFill>
                <a:uFillTx/>
                <a:latin typeface="Comic Sans MS"/>
                <a:hlinkClick r:id="rId3"/>
              </a:rPr>
              <a:t>.</a:t>
            </a:r>
            <a:r>
              <a:rPr b="0" lang="it-IT" sz="2400" spc="-1" strike="noStrike" u="sng">
                <a:solidFill>
                  <a:srgbClr val="ccccff"/>
                </a:solidFill>
                <a:uFillTx/>
                <a:latin typeface="Comic Sans MS"/>
                <a:hlinkClick r:id="rId4"/>
              </a:rPr>
              <a:t>it</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LE TAPPE PER CREARE UN’IMPRES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ONOSCI TE STES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MPARA DAGLI ALTR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IMITA I RISCH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ON IMPROVVIS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AI PARLARE I NUMERI</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OSCI TE STESS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MPRENDITORI SI PUO’ DIVENTARE, MA CREATIVITA’, PROPENSIONE AL RISCHIO E CAPACITA’ DI  STABILIRE BUONE RELAZIONI AIUTA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TEST DI AUTOVALUTAZIONE  PSICOLOGICA:  DELPH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RA DAGLI ALTRI</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fare l’imprenditore occorre un minimo d’esperienz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INDAGINI DI COPERNICO:</a:t>
            </a:r>
            <a:endParaRPr b="0" lang="en-US" sz="2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ltre che a se stessi, è bene guardare anche a cosa fanno gli altri. Il confronto con le esperienze altrui è fondamentale per valutare compiutamente la propria idea progettual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pernico, è un'indagine che esamina le nuove imprese da 0 a 5 anni di età, relativamente a numerosi aspetti (della composizione del nucleo imprenditoriale, alla struttura aziendale, alla fase d'avvio, etc.).</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e risultanze di COPERNIC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ori di attività: K73 Ricerca e sviluppo, K74 Altre attività professionali e imprenditoria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42 % delle aziende ha una sola persona; meno di 1 su 8 ne ha oltre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lcune risultanze di Copernico</a:t>
            </a:r>
            <a:br>
              <a:rPr sz="3200"/>
            </a:br>
            <a:r>
              <a:rPr b="0" lang="it-IT" sz="2400" spc="-1" strike="noStrike">
                <a:solidFill>
                  <a:srgbClr val="000000"/>
                </a:solidFill>
                <a:latin typeface="Times New Roman"/>
              </a:rPr>
              <a:t>Diminuisce il ricorso al credito bancario</a:t>
            </a:r>
            <a:endParaRPr b="0" lang="en-US" sz="2400" spc="-1" strike="noStrike">
              <a:solidFill>
                <a:srgbClr val="000000"/>
              </a:solidFill>
              <a:latin typeface="Times New Roman"/>
            </a:endParaRPr>
          </a:p>
        </p:txBody>
      </p:sp>
      <p:graphicFrame>
        <p:nvGraphicFramePr>
          <p:cNvPr id="84" name=""/>
          <p:cNvGraphicFramePr/>
          <p:nvPr/>
        </p:nvGraphicFramePr>
        <p:xfrm>
          <a:off x="685800" y="1676520"/>
          <a:ext cx="7772400" cy="2155680"/>
        </p:xfrm>
        <a:graphic>
          <a:graphicData uri="http://schemas.openxmlformats.org/presentationml/2006/ole">
            <p:oleObj progId="Excel.Sheet.12" r:id="rId1" spid="">
              <p:embed/>
              <p:pic>
                <p:nvPicPr>
                  <p:cNvPr id="85" name="" descr=""/>
                  <p:cNvPicPr/>
                  <p:nvPr/>
                </p:nvPicPr>
                <p:blipFill>
                  <a:blip r:embed="rId2"/>
                  <a:stretch/>
                </p:blipFill>
                <p:spPr>
                  <a:xfrm>
                    <a:off x="685800" y="1676520"/>
                    <a:ext cx="7772400" cy="2155680"/>
                  </a:xfrm>
                  <a:prstGeom prst="rect">
                    <a:avLst/>
                  </a:prstGeom>
                  <a:ln w="0">
                    <a:noFill/>
                  </a:ln>
                </p:spPr>
              </p:pic>
            </p:oleObj>
          </a:graphicData>
        </a:graphic>
      </p:graphicFrame>
      <p:graphicFrame>
        <p:nvGraphicFramePr>
          <p:cNvPr id="86" name=""/>
          <p:cNvGraphicFramePr/>
          <p:nvPr/>
        </p:nvGraphicFramePr>
        <p:xfrm>
          <a:off x="685800" y="4038480"/>
          <a:ext cx="7772400" cy="2190960"/>
        </p:xfrm>
        <a:graphic>
          <a:graphicData uri="http://schemas.openxmlformats.org/drawingml/2006/table">
            <a:tbl>
              <a:tblPr/>
              <a:tblGrid>
                <a:gridCol w="3776760"/>
                <a:gridCol w="1081080"/>
                <a:gridCol w="863640"/>
                <a:gridCol w="969840"/>
                <a:gridCol w="10810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Fonte di reperimento capital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g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ota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prop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7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8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69.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5.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di familiari/amici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redito banca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5.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2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Prestiti di società finanziari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Tota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risultanze di Copernico: indagini di mercato e piano d’impresa</a:t>
            </a:r>
            <a:endParaRPr b="0" lang="en-US" sz="3200" spc="-1" strike="noStrike">
              <a:solidFill>
                <a:srgbClr val="000000"/>
              </a:solidFill>
              <a:latin typeface="Times New Roman"/>
            </a:endParaRPr>
          </a:p>
        </p:txBody>
      </p:sp>
      <p:graphicFrame>
        <p:nvGraphicFramePr>
          <p:cNvPr id="88" name=""/>
          <p:cNvGraphicFramePr/>
          <p:nvPr/>
        </p:nvGraphicFramePr>
        <p:xfrm>
          <a:off x="762120" y="1828800"/>
          <a:ext cx="8001000" cy="1430280"/>
        </p:xfrm>
        <a:graphic>
          <a:graphicData uri="http://schemas.openxmlformats.org/presentationml/2006/ole">
            <p:oleObj progId="Excel.Sheet.12" r:id="rId1" spid="">
              <p:embed/>
              <p:pic>
                <p:nvPicPr>
                  <p:cNvPr id="89" name="" descr=""/>
                  <p:cNvPicPr/>
                  <p:nvPr/>
                </p:nvPicPr>
                <p:blipFill>
                  <a:blip r:embed="rId2"/>
                  <a:stretch/>
                </p:blipFill>
                <p:spPr>
                  <a:xfrm>
                    <a:off x="762120" y="1828800"/>
                    <a:ext cx="8001000" cy="1430280"/>
                  </a:xfrm>
                  <a:prstGeom prst="rect">
                    <a:avLst/>
                  </a:prstGeom>
                  <a:ln w="0">
                    <a:noFill/>
                  </a:ln>
                </p:spPr>
              </p:pic>
            </p:oleObj>
          </a:graphicData>
        </a:graphic>
      </p:graphicFrame>
      <p:graphicFrame>
        <p:nvGraphicFramePr>
          <p:cNvPr id="90" name=""/>
          <p:cNvGraphicFramePr/>
          <p:nvPr/>
        </p:nvGraphicFramePr>
        <p:xfrm>
          <a:off x="762120" y="3505320"/>
          <a:ext cx="8035920" cy="1525320"/>
        </p:xfrm>
        <a:graphic>
          <a:graphicData uri="http://schemas.openxmlformats.org/presentationml/2006/ole">
            <p:oleObj progId="Excel.Sheet.12" r:id="rId3" spid="">
              <p:embed/>
              <p:pic>
                <p:nvPicPr>
                  <p:cNvPr id="91" name="" descr=""/>
                  <p:cNvPicPr/>
                  <p:nvPr/>
                </p:nvPicPr>
                <p:blipFill>
                  <a:blip r:embed="rId4"/>
                  <a:stretch/>
                </p:blipFill>
                <p:spPr>
                  <a:xfrm>
                    <a:off x="762120" y="3505320"/>
                    <a:ext cx="8035920" cy="152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 I RISCHI</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c'è impresa senza rischio: il pericolo che qualcosa vada storto è connesso all'idea stessa di mettersi in proprio. Il rischio non è eliminabile, tuttavia molto dipende dalle scelte compiute al momento di definire il progetto d'impre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o rischio contenga il tuo progetto d'impresa lo puoi misurare con Ulisse, un software per la valutazione del rischio d'impresa, che troverai presso lo sportello GENESI della tua Camera di Commerc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BUONA IDEA NON BASTA E’ NECESSARIO SAPERE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HI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A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PRODUR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teremo 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celta imprenditori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fasi della sua realizzazio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te genesi delle camere di commercio: un aiuto concreto</a:t>
            </a:r>
            <a:endParaRPr b="0" lang="en-US" sz="3200" spc="-1" strike="noStrike">
              <a:solidFill>
                <a:srgbClr val="000000"/>
              </a:solidFill>
              <a:latin typeface="Times New Roman"/>
            </a:endParaRPr>
          </a:p>
        </p:txBody>
      </p:sp>
      <p:pic>
        <p:nvPicPr>
          <p:cNvPr id="52" name="PE01846_" descr=""/>
          <p:cNvPicPr/>
          <p:nvPr/>
        </p:nvPicPr>
        <p:blipFill>
          <a:blip r:embed="rId1"/>
          <a:stretch/>
        </p:blipFill>
        <p:spPr>
          <a:xfrm>
            <a:off x="2286000" y="4648320"/>
            <a:ext cx="4583160" cy="201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marketing serve a defin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odott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prezz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mite la distribu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 la comunica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cliente “gius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GANIZZAZIONE DELL’AZIENDA</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zienda è composta d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materiali (locali, mobili, macchinari, attrezzature, materie pri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umane (persona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finanziari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tecnologiche e conoscenza</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DEVE DECIDERE:</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costituire ex novo la struttura o acquisirne una già esistent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e dimensione dargl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e localizzarl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 veste giuridica assumer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e organizzare i fattori produttiv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 SOLI O IN SOCIETA’</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delle prime riflessioni da fare quando giunge il momento di concretizzare l’avvio dell’attività è quella sulla forma giuridic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 può decidere si svolgere l’attività di impresa come unico titolare oppure di svolgerla insieme ad altri soci allo scopo di dividerne gli utili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RATTERISTICHE DELL’IMPRESA INDIVIDUALE</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più semplici nella fase di costituzione e cess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co titolare responsabile pertanto maggiore flessibilità e rapidità di decis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 costi ed oneri di tipo amministrativo e contab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abilità personale e illimit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mprendere i familiari nell’impresa, come collaboratori (impresa familia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ATTERISTICHE DELLA SOCIETÀ</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configura quando due o più persone si accordano per svolgere insieme un’attività economica allo scopo di dividerne gli ut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ddivisione dei rischi e delle responsabilità</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ntare sull’apporto finanziario, produttivo   e organizzativo di più persone</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separare il proprio patrimonio personale da quello societario</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zione del carico fiscale fra diversi soggett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giori oneri amministrativi e contab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e flessibilità e rapidità decisionale</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LOGIE DI SOCIETÀ</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persone: s.n.c – s.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capitali: s.r.l – s.p.a – s.a.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cooper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PERSON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ha personalità giuridica, quindi i soci sono responsabili illimitatamente (rispondono dei debiti sociali anche con il loro patrimonio personale) e solidalmente (rispondono anche della parte di debito non pagata dagli altri soc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questo, le qualità dei singoli soci (onestà, affidabilità, competenza, ecc..) sono molto important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ministrazione può spettare solo ai soci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la società in accomandita semplice permette di distinguere tra soci responsabili a cui spetta l’amministrazione, accomandatari, e soci non responsabili, accomandanti, che non partecipano all’amministrazion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CAPITALI</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 personalità giuridica distinta da quella dei soci che la compongono, pertanto i soci rispondono limitatamente alle quote investite nell’impres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previsto l’apporto di un capitale minimo (100.000 euro per s.p.a., 10.000 euro per s.r.l.)</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rapporti tra i soci e e con i terzi sono maggiormente formalizzati, pertanto offre più garanzie a fronte di un capitale sociale consistent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È la forma sociale tipica delle imprese medio-grand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nella s.r.l. si ha il vantaggio della responsabilità limitata, mantenendo comunque l’importanza dell’elemento personale. Si adatta quindi a quella fascia di imprese con dimensioni medie, superiori alle s.n.c e inferiori alla</a:t>
            </a:r>
            <a:r>
              <a:rPr b="0" lang="en-US" sz="2800" spc="-1" strike="noStrike">
                <a:solidFill>
                  <a:srgbClr val="000000"/>
                </a:solidFill>
                <a:latin typeface="Times New Roman"/>
              </a:rPr>
              <a:t> </a:t>
            </a:r>
            <a:r>
              <a:rPr b="0" lang="en-US" sz="2000" spc="-1" strike="noStrike">
                <a:solidFill>
                  <a:srgbClr val="000000"/>
                </a:solidFill>
                <a:latin typeface="Times New Roman"/>
              </a:rPr>
              <a:t>s.p.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COOPERA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può definire come un insieme di persone che svolgono un’attività economica a favore dei soci stessi, per ottenere beni, servizi o retribuzioni a condizioni più vantaggiose rispetto a quelle di mercat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egue uno scopo mutualistico, al quale si può aggiungere, solo SECONDARIAMENTE, lo scopo di lucr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eno 9 soci (almeno 3 per la piccola cooperativ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godere delle agevolazioni accordate dalla legge (es.  redditi non tassati) devono essere rispettate determinate condizioni (es. utili distribuiti entro certi limiti)</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i criteri per sceglier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dei promoto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 e dimensione dell’impres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nibilità di capital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fiducia nei potenzial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responsabilità che i soci vogliono assume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monio personale de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partecipare direttamente all’attività</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ricorrere a particolari forme di finanziament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o la scuol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Proseguiamo gli stud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dipendente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atipico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2E2E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2E2E8t00"/>
              </a:rPr>
              <a:t>Lavoro autonomo </a:t>
            </a: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impresa </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BD05515_" descr=""/>
          <p:cNvPicPr/>
          <p:nvPr/>
        </p:nvPicPr>
        <p:blipFill>
          <a:blip r:embed="rId1"/>
          <a:stretch/>
        </p:blipFill>
        <p:spPr>
          <a:xfrm>
            <a:off x="5486400" y="2971800"/>
            <a:ext cx="3181320" cy="341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L LABIRINTO DELLA BUROCRAZIA</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l labirinto della burocrazi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importante avere per tempo le informazioni giuste sulle varie licenze ed autorizzazioni necessarie per avviare l'attività, e sugli enti preposti al rilascio di questi atti (Camere di Commercio, ASL, Vigili del fuoco…).</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diversi vincoli e adempimenti di ordine burocratico indispensabili per costituire un'impresa hanno infatti un rilievo economico, non solo come tasse, diritti da pagare , etc., ma anche perché possono ritardare eccessivamente l'avvio della tua iniziativa, non rendendola più tempestiva rispetto alle esigenze del mercato: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o d'Arianna: banca dati on line sulle autorizzazioni necessarie per avviare oltre 3000 tipi di attività.</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banca dati è consultabile presso lo sportello Genesi della tua Camera di Commerci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IMPRESA INDIVIDUALE</a:t>
            </a:r>
            <a:endParaRPr b="0" lang="en-US" sz="2800" spc="-1" strike="noStrike">
              <a:solidFill>
                <a:srgbClr val="000000"/>
              </a:solidFill>
              <a:latin typeface="Times New Roman"/>
            </a:endParaRPr>
          </a:p>
        </p:txBody>
      </p:sp>
      <p:sp>
        <p:nvSpPr>
          <p:cNvPr id="119" name="PlaceHolder 2"/>
          <p:cNvSpPr>
            <a:spLocks noGrp="1"/>
          </p:cNvSpPr>
          <p:nvPr>
            <p:ph/>
          </p:nvPr>
        </p:nvSpPr>
        <p:spPr>
          <a:xfrm>
            <a:off x="151920" y="1294920"/>
            <a:ext cx="2590920" cy="221004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 ufficio IVA</a:t>
            </a:r>
            <a:endParaRPr b="0" lang="en-US" sz="1800" spc="-1" strike="noStrike">
              <a:solidFill>
                <a:srgbClr val="000000"/>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manda Partita IVA</a:t>
            </a:r>
            <a:endParaRPr b="0"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PlaceHolder 3"/>
          <p:cNvSpPr>
            <a:spLocks noGrp="1"/>
          </p:cNvSpPr>
          <p:nvPr>
            <p:ph/>
          </p:nvPr>
        </p:nvSpPr>
        <p:spPr>
          <a:xfrm>
            <a:off x="2895480" y="2666880"/>
            <a:ext cx="3657600" cy="2895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Camera di Commerc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crizione al </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stro Imprese</a:t>
            </a:r>
            <a:endParaRPr b="0" lang="en-US" sz="1800" spc="-1" strike="noStrike">
              <a:solidFill>
                <a:srgbClr val="000000"/>
              </a:solidFill>
              <a:latin typeface="Times New Roman"/>
            </a:endParaRPr>
          </a:p>
        </p:txBody>
      </p:sp>
      <p:pic>
        <p:nvPicPr>
          <p:cNvPr id="121" name="" descr=""/>
          <p:cNvPicPr/>
          <p:nvPr/>
        </p:nvPicPr>
        <p:blipFill>
          <a:blip r:embed="rId1"/>
          <a:stretch/>
        </p:blipFill>
        <p:spPr>
          <a:xfrm>
            <a:off x="380880" y="1752480"/>
            <a:ext cx="2057400" cy="1524240"/>
          </a:xfrm>
          <a:prstGeom prst="rect">
            <a:avLst/>
          </a:prstGeom>
          <a:ln w="0">
            <a:noFill/>
          </a:ln>
        </p:spPr>
      </p:pic>
      <p:pic>
        <p:nvPicPr>
          <p:cNvPr id="122" name="" descr=""/>
          <p:cNvPicPr/>
          <p:nvPr/>
        </p:nvPicPr>
        <p:blipFill>
          <a:blip r:embed="rId2"/>
          <a:stretch/>
        </p:blipFill>
        <p:spPr>
          <a:xfrm>
            <a:off x="3733920" y="3048120"/>
            <a:ext cx="2057400" cy="1523880"/>
          </a:xfrm>
          <a:prstGeom prst="rect">
            <a:avLst/>
          </a:prstGeom>
          <a:ln w="0">
            <a:noFill/>
          </a:ln>
        </p:spPr>
      </p:pic>
      <p:sp>
        <p:nvSpPr>
          <p:cNvPr id="123" name=""/>
          <p:cNvSpPr/>
          <p:nvPr/>
        </p:nvSpPr>
        <p:spPr>
          <a:xfrm>
            <a:off x="6629400" y="3975120"/>
            <a:ext cx="2324160" cy="268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3  Inail - Inps</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pertura posizione</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 descr=""/>
          <p:cNvPicPr/>
          <p:nvPr/>
        </p:nvPicPr>
        <p:blipFill>
          <a:blip r:embed="rId3"/>
          <a:stretch/>
        </p:blipFill>
        <p:spPr>
          <a:xfrm>
            <a:off x="6781680" y="4495680"/>
            <a:ext cx="2057400" cy="152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PERSONE</a:t>
            </a:r>
            <a:endParaRPr b="0" lang="en-US" sz="2800" spc="-1" strike="noStrike">
              <a:solidFill>
                <a:srgbClr val="000000"/>
              </a:solidFill>
              <a:latin typeface="Times New Roman"/>
            </a:endParaRPr>
          </a:p>
        </p:txBody>
      </p:sp>
      <p:sp>
        <p:nvSpPr>
          <p:cNvPr id="126" name="PlaceHolder 2"/>
          <p:cNvSpPr>
            <a:spLocks noGrp="1"/>
          </p:cNvSpPr>
          <p:nvPr>
            <p:ph/>
          </p:nvPr>
        </p:nvSpPr>
        <p:spPr>
          <a:xfrm>
            <a:off x="2438280" y="2057040"/>
            <a:ext cx="3810240" cy="685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otaio per atto costitutivo</a:t>
            </a:r>
            <a:endParaRPr b="0" lang="en-US" sz="2000" spc="-1" strike="noStrike">
              <a:solidFill>
                <a:srgbClr val="000000"/>
              </a:solidFill>
              <a:latin typeface="Times New Roman"/>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3"/>
          <p:cNvSpPr>
            <a:spLocks noGrp="1"/>
          </p:cNvSpPr>
          <p:nvPr>
            <p:ph/>
          </p:nvPr>
        </p:nvSpPr>
        <p:spPr>
          <a:xfrm>
            <a:off x="5715000" y="3200040"/>
            <a:ext cx="3124080" cy="7621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 Ufficio IVA per apertura partita iv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8" name="" descr=""/>
          <p:cNvPicPr/>
          <p:nvPr/>
        </p:nvPicPr>
        <p:blipFill>
          <a:blip r:embed="rId1"/>
          <a:stretch/>
        </p:blipFill>
        <p:spPr>
          <a:xfrm>
            <a:off x="3581280" y="3276720"/>
            <a:ext cx="2057400" cy="1523880"/>
          </a:xfrm>
          <a:prstGeom prst="rect">
            <a:avLst/>
          </a:prstGeom>
          <a:ln w="0">
            <a:noFill/>
          </a:ln>
        </p:spPr>
      </p:pic>
      <p:sp>
        <p:nvSpPr>
          <p:cNvPr id="129" name=""/>
          <p:cNvSpPr/>
          <p:nvPr/>
        </p:nvSpPr>
        <p:spPr>
          <a:xfrm>
            <a:off x="5105520" y="525780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 Camera di Commercio per iscrizione al R. I.</a:t>
            </a:r>
            <a:endParaRPr b="0" lang="en-US" sz="2000" spc="-1" strike="noStrike">
              <a:solidFill>
                <a:srgbClr val="000000"/>
              </a:solidFill>
              <a:latin typeface="Times New Roman"/>
            </a:endParaRPr>
          </a:p>
        </p:txBody>
      </p:sp>
      <p:sp>
        <p:nvSpPr>
          <p:cNvPr id="130" name=""/>
          <p:cNvSpPr/>
          <p:nvPr/>
        </p:nvSpPr>
        <p:spPr>
          <a:xfrm>
            <a:off x="762120" y="5334120"/>
            <a:ext cx="3124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4 – Inail 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31" name=""/>
          <p:cNvSpPr/>
          <p:nvPr/>
        </p:nvSpPr>
        <p:spPr>
          <a:xfrm>
            <a:off x="0" y="3276720"/>
            <a:ext cx="320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 CCIAA o notaio vidimazione libri sociali</a:t>
            </a:r>
            <a:endParaRPr b="0" lang="en-US" sz="2000" spc="-1" strike="noStrike">
              <a:solidFill>
                <a:srgbClr val="000000"/>
              </a:solidFill>
              <a:latin typeface="Times New Roman"/>
            </a:endParaRPr>
          </a:p>
        </p:txBody>
      </p:sp>
      <p:sp>
        <p:nvSpPr>
          <p:cNvPr id="132" name=""/>
          <p:cNvSpPr/>
          <p:nvPr/>
        </p:nvSpPr>
        <p:spPr>
          <a:xfrm>
            <a:off x="6248520" y="2590920"/>
            <a:ext cx="609480" cy="30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7162920" y="4038480"/>
            <a:ext cx="761760" cy="838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172200" y="2286000"/>
            <a:ext cx="99072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3885840" y="5866920"/>
            <a:ext cx="160020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48520" y="2286000"/>
            <a:ext cx="76176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19920" y="2133720"/>
            <a:ext cx="1371600" cy="76176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867280" y="2286000"/>
            <a:ext cx="1143000" cy="5335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7238520" y="4191120"/>
            <a:ext cx="304920" cy="9144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4572000" y="6172200"/>
            <a:ext cx="1447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a:off x="5486400" y="6324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3962520" y="6019560"/>
            <a:ext cx="1218960" cy="152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1828800" y="44956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CAPITALI</a:t>
            </a:r>
            <a:endParaRPr b="0" lang="en-US" sz="2800" spc="-1" strike="noStrike">
              <a:solidFill>
                <a:srgbClr val="000000"/>
              </a:solidFill>
              <a:latin typeface="Times New Roman"/>
            </a:endParaRPr>
          </a:p>
        </p:txBody>
      </p:sp>
      <p:sp>
        <p:nvSpPr>
          <p:cNvPr id="145" name="PlaceHolder 2"/>
          <p:cNvSpPr>
            <a:spLocks noGrp="1"/>
          </p:cNvSpPr>
          <p:nvPr>
            <p:ph/>
          </p:nvPr>
        </p:nvSpPr>
        <p:spPr>
          <a:xfrm>
            <a:off x="5867280" y="2514600"/>
            <a:ext cx="3276720" cy="91440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NOTAIO per atto costitutivo e omolog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6248520" y="411480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  UFFICIO IVA per apertura partita iva</a:t>
            </a:r>
            <a:endParaRPr b="0" lang="en-US" sz="2000" spc="-1" strike="noStrike">
              <a:solidFill>
                <a:srgbClr val="000000"/>
              </a:solidFill>
              <a:latin typeface="Times New Roman"/>
            </a:endParaRPr>
          </a:p>
        </p:txBody>
      </p:sp>
      <p:sp>
        <p:nvSpPr>
          <p:cNvPr id="147" name=""/>
          <p:cNvSpPr/>
          <p:nvPr/>
        </p:nvSpPr>
        <p:spPr>
          <a:xfrm>
            <a:off x="1676520" y="5334120"/>
            <a:ext cx="2514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343400" y="5562720"/>
            <a:ext cx="2895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AMERA DI COMMERCIO per iscrizione al R. I.</a:t>
            </a:r>
            <a:endParaRPr b="0" lang="en-US" sz="2000" spc="-1" strike="noStrike">
              <a:solidFill>
                <a:srgbClr val="000000"/>
              </a:solidFill>
              <a:latin typeface="Times New Roman"/>
            </a:endParaRPr>
          </a:p>
        </p:txBody>
      </p:sp>
      <p:sp>
        <p:nvSpPr>
          <p:cNvPr id="149" name=""/>
          <p:cNvSpPr/>
          <p:nvPr/>
        </p:nvSpPr>
        <p:spPr>
          <a:xfrm>
            <a:off x="685800" y="5029200"/>
            <a:ext cx="2743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AIL-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50" name=""/>
          <p:cNvSpPr/>
          <p:nvPr/>
        </p:nvSpPr>
        <p:spPr>
          <a:xfrm>
            <a:off x="0" y="312408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CCIAA O NOTAIO vidimazione libri sociali</a:t>
            </a:r>
            <a:endParaRPr b="0" lang="en-US" sz="2000" spc="-1" strike="noStrike">
              <a:solidFill>
                <a:srgbClr val="000000"/>
              </a:solidFill>
              <a:latin typeface="Times New Roman"/>
            </a:endParaRPr>
          </a:p>
        </p:txBody>
      </p:sp>
      <p:sp>
        <p:nvSpPr>
          <p:cNvPr id="151" name=""/>
          <p:cNvSpPr/>
          <p:nvPr/>
        </p:nvSpPr>
        <p:spPr>
          <a:xfrm>
            <a:off x="2514600" y="1752480"/>
            <a:ext cx="37339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ANCA versamento dei 3/10 capitale sociale</a:t>
            </a:r>
            <a:endParaRPr b="0" lang="en-US" sz="2000" spc="-1" strike="noStrike">
              <a:solidFill>
                <a:srgbClr val="000000"/>
              </a:solidFill>
              <a:latin typeface="Times New Roman"/>
            </a:endParaRPr>
          </a:p>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2" name="" descr=""/>
          <p:cNvPicPr/>
          <p:nvPr/>
        </p:nvPicPr>
        <p:blipFill>
          <a:blip r:embed="rId1"/>
          <a:stretch/>
        </p:blipFill>
        <p:spPr>
          <a:xfrm>
            <a:off x="3886200" y="3352680"/>
            <a:ext cx="2057400" cy="1524240"/>
          </a:xfrm>
          <a:prstGeom prst="rect">
            <a:avLst/>
          </a:prstGeom>
          <a:ln w="0">
            <a:noFill/>
          </a:ln>
        </p:spPr>
      </p:pic>
      <p:sp>
        <p:nvSpPr>
          <p:cNvPr id="153" name=""/>
          <p:cNvSpPr/>
          <p:nvPr/>
        </p:nvSpPr>
        <p:spPr>
          <a:xfrm>
            <a:off x="6477120" y="1981080"/>
            <a:ext cx="1143000" cy="381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695720" y="3352680"/>
            <a:ext cx="228600" cy="5335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7391520" y="5257800"/>
            <a:ext cx="457200" cy="8380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3048120" y="5943240"/>
            <a:ext cx="1295280" cy="304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1447560" y="4038120"/>
            <a:ext cx="533160" cy="8384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1981080" y="2514600"/>
            <a:ext cx="99072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Comic Sans MS"/>
              </a:rPr>
              <a:t>LE FONTI DI FINANZIAMENTO</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dalità di reperimento dei capitali:</a:t>
            </a:r>
            <a:endParaRPr b="0" lang="en-US" sz="20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proprio</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di terzi</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Finanziamenti pubblici</a:t>
            </a:r>
            <a:endParaRPr b="0" lang="en-US" sz="16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si possono distinguere in diverse tipologie (conto capitale, conto interessi, conto garanzia) </a:t>
            </a:r>
            <a:endParaRPr b="0" lang="en-US" sz="20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pubblici si possono distinguere in base alla fonte (comunitaria, nazionale, regionale)</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diamo a vedere…. </a:t>
            </a:r>
            <a:r>
              <a:rPr b="0" lang="it-IT" sz="2000" spc="-1" strike="noStrike" u="sng">
                <a:solidFill>
                  <a:srgbClr val="ccccff"/>
                </a:solidFill>
                <a:uFillTx/>
                <a:latin typeface="Comic Sans MS"/>
                <a:hlinkClick r:id="rId1"/>
              </a:rPr>
              <a:t>www.</a:t>
            </a:r>
            <a:r>
              <a:rPr b="0" lang="it-IT" sz="2000" spc="-1" strike="noStrike" u="sng">
                <a:solidFill>
                  <a:srgbClr val="ccccff"/>
                </a:solidFill>
                <a:uFillTx/>
                <a:latin typeface="Comic Sans MS"/>
                <a:hlinkClick r:id="rId2"/>
              </a:rPr>
              <a:t>rer</a:t>
            </a:r>
            <a:r>
              <a:rPr b="0" lang="it-IT" sz="2000" spc="-1" strike="noStrike" u="sng">
                <a:solidFill>
                  <a:srgbClr val="ccccff"/>
                </a:solidFill>
                <a:uFillTx/>
                <a:latin typeface="Comic Sans MS"/>
                <a:hlinkClick r:id="rId3"/>
              </a:rPr>
              <a:t>.</a:t>
            </a:r>
            <a:r>
              <a:rPr b="0" lang="it-IT" sz="2000" spc="-1" strike="noStrike" u="sng">
                <a:solidFill>
                  <a:srgbClr val="ccccff"/>
                </a:solidFill>
                <a:uFillTx/>
                <a:latin typeface="Comic Sans MS"/>
                <a:hlinkClick r:id="rId4"/>
              </a:rPr>
              <a:t>camcom</a:t>
            </a:r>
            <a:r>
              <a:rPr b="0" lang="it-IT" sz="2000" spc="-1" strike="noStrike" u="sng">
                <a:solidFill>
                  <a:srgbClr val="ccccff"/>
                </a:solidFill>
                <a:uFillTx/>
                <a:latin typeface="Comic Sans MS"/>
                <a:hlinkClick r:id="rId5"/>
              </a:rPr>
              <a:t>.</a:t>
            </a:r>
            <a:r>
              <a:rPr b="0" lang="it-IT" sz="2000" spc="-1" strike="noStrike" u="sng">
                <a:solidFill>
                  <a:srgbClr val="ccccff"/>
                </a:solidFill>
                <a:uFillTx/>
                <a:latin typeface="Comic Sans MS"/>
                <a:hlinkClick r:id="rId6"/>
              </a:rPr>
              <a:t>it</a:t>
            </a:r>
            <a:r>
              <a:rPr b="0" lang="it-IT" sz="2000" spc="-1" strike="noStrike" u="sng">
                <a:solidFill>
                  <a:srgbClr val="ccccff"/>
                </a:solidFill>
                <a:uFillTx/>
                <a:latin typeface="Comic Sans MS"/>
                <a:hlinkClick r:id="rId7"/>
              </a:rPr>
              <a:t>/</a:t>
            </a:r>
            <a:r>
              <a:rPr b="0" lang="it-IT" sz="2000" spc="-1" strike="noStrike" u="sng">
                <a:solidFill>
                  <a:srgbClr val="ccccff"/>
                </a:solidFill>
                <a:uFillTx/>
                <a:latin typeface="Comic Sans MS"/>
                <a:hlinkClick r:id="rId8"/>
              </a:rPr>
              <a:t>guidafin</a:t>
            </a: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Comic Sans MS"/>
              </a:rPr>
              <a:t>RIASSUMENDO..</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osci te stess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dati intorn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izza i rischi</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gli di produrre ciò che puoi vende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soli o in società?</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sforma le idee in numeri…. Il business pla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comincia…..ma attenzione al labirinto delle procedu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onti di finanziament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i arrivato? Ricorda che si può sempre migliorare…. Con la formazione continua!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o dipendente</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in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nserimen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prendist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parzia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intermitt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riparti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omministrazione di lavo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 formazione e lavo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atore atipico</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llaboratore a progetto</a:t>
            </a:r>
            <a:r>
              <a:rPr b="0" lang="it-IT" sz="2400" spc="-1" strike="noStrike">
                <a:solidFill>
                  <a:srgbClr val="000000"/>
                </a:solidFill>
                <a:latin typeface="Times New Roman"/>
              </a:rPr>
              <a:t>: sostituisce il vecchio co.co.co; forma intermedia fra lavoratore subordinato e lavoratore autonomo.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rapporto di lavoro deve essere riconducibile a un progetto o a una fase del progetto determinato da committente e gestito autonomamente dal collaborator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occasionale</a:t>
            </a:r>
            <a:r>
              <a:rPr b="0" lang="it-IT" sz="2400" spc="-1" strike="noStrike">
                <a:solidFill>
                  <a:srgbClr val="000000"/>
                </a:solidFill>
                <a:latin typeface="Times New Roman"/>
              </a:rPr>
              <a:t>: in caso di rapporti di lavoro autonomo non superiore a 30 gg. nell’anno solare con lo stesso committente, salvo che il compenso complessivo per la prestazione non superi 5.000 euro.</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accessorio</a:t>
            </a:r>
            <a:r>
              <a:rPr b="0" lang="it-IT" sz="2400" spc="-1" strike="noStrike">
                <a:solidFill>
                  <a:srgbClr val="000000"/>
                </a:solidFill>
                <a:latin typeface="Times New Roman"/>
              </a:rPr>
              <a:t>: attività lavorative di natura meramente occasionale rese da soggetti a rischio di esclusione sociale, o comunque non ancora entrati ne mondo del lavoro, o in procinto di uscirne.</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saperne di più…</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cop_biagi%20(1)" descr=""/>
          <p:cNvPicPr/>
          <p:nvPr/>
        </p:nvPicPr>
        <p:blipFill>
          <a:blip r:embed="rId1"/>
          <a:stretch/>
        </p:blipFill>
        <p:spPr>
          <a:xfrm>
            <a:off x="838080" y="1143000"/>
            <a:ext cx="693432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voro autonom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 L’espressione “LAVORO AUTONOMO” si intende (art.2222 C.C. - "contratto d'opera") ogni attività lavorativa che prevede:</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l'esecuzione, contro corrispettivo, di un'opera o di un servizio;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con lavoro prevalentemente proprio;</a:t>
            </a:r>
            <a:br>
              <a:rPr sz="1800"/>
            </a:br>
            <a:r>
              <a:rPr b="0" lang="en-US" sz="1800" spc="-1" strike="noStrike">
                <a:solidFill>
                  <a:srgbClr val="000000"/>
                </a:solidFill>
                <a:latin typeface="Comic Sans MS"/>
              </a:rPr>
              <a:t>• </a:t>
            </a:r>
            <a:r>
              <a:rPr b="0" i="1" lang="en-US" sz="1800" spc="-1" strike="noStrike">
                <a:solidFill>
                  <a:srgbClr val="000000"/>
                </a:solidFill>
                <a:latin typeface="Comic Sans MS"/>
              </a:rPr>
              <a:t>senza vincolo di subordinazione nei confronti del committente.</a:t>
            </a:r>
            <a:br>
              <a:rPr sz="1800"/>
            </a:br>
            <a:r>
              <a:rPr b="0" lang="en-US" sz="1800" spc="-1" strike="noStrike">
                <a:solidFill>
                  <a:srgbClr val="000000"/>
                </a:solidFill>
                <a:latin typeface="Comic Sans MS"/>
              </a:rPr>
              <a:t> </a:t>
            </a:r>
            <a:br>
              <a:rPr sz="1800"/>
            </a:br>
            <a:r>
              <a:rPr b="1" lang="en-US" sz="1800" spc="-1" strike="noStrike">
                <a:solidFill>
                  <a:srgbClr val="000000"/>
                </a:solidFill>
                <a:latin typeface="Comic Sans MS"/>
              </a:rPr>
              <a:t>Il lavoro autonomo si differenzia dall'impresa principalmente per l'assenza di una significativa organizzazione, cioè di una azienda</a:t>
            </a:r>
            <a:r>
              <a:rPr b="1" lang="en-US" sz="1800" spc="-1" strike="noStrike" u="sng">
                <a:solidFill>
                  <a:srgbClr val="000000"/>
                </a:solidFill>
                <a:uFillTx/>
                <a:latin typeface="Comic Sans MS"/>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e attività autonome possono essere svolte nei modi seguenti:</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esercizio di arti o professioni;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collaborazione a progetto e occasionali;</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lavoro autonomo occasional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significa fare impres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2000" spc="-1" strike="noStrike">
                <a:solidFill>
                  <a:srgbClr val="000000"/>
                </a:solidFill>
                <a:latin typeface="Comic Sans MS"/>
              </a:rPr>
              <a:t>Il Codice Civile non fornisce la definizione di "impresa", ma quella di "imprenditore" (art. 2082 C.C.).</a:t>
            </a:r>
            <a:br>
              <a:rPr sz="2000"/>
            </a:b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imprenditore chi esercita professionalmente una attività economica organizzata al fine della produzione o dello scambio di beni e di servizi".</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evidente che l'attività di di cui si parla (economica, organizzata, diretta alla produzione o allo scambio di beni e di servizi, esercitata professionalmente) non è altro che l'impres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B. Giuridicamente l’azienda è l’insieme degli strumenti necessari a realizzare l’attività di impresa (macchinari, locali, materie prime, risorse umane, capitali, ecc..)</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entare imprenditor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contesto di riferimento e i soggetti con i quali ci si relazionerà:</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mera di Commerci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istituzioni locali: Provincia, Comune, ec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Organizzazioni sindac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Associazioni di categor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i Ordini profession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ri</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6:51:23Z</dcterms:created>
  <dc:creator>Stefano</dc:creator>
  <dc:description/>
  <dc:language>en-US</dc:language>
  <cp:lastModifiedBy>Stefano</cp:lastModifiedBy>
  <dcterms:modified xsi:type="dcterms:W3CDTF">2006-04-21T14:15:20Z</dcterms:modified>
  <cp:revision>7</cp:revision>
  <dc:subject/>
  <dc:title>Fare impresa: una scelta possible</dc:title>
</cp:coreProperties>
</file>